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2.gif" ContentType="image/gif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2DF3-B9BF-49DA-84CB-A0241C33C3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58FB-3E3E-421B-8500-5FED39BA9D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9622-A8F8-4F77-8860-1EF397AF83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6918-46A5-49E0-B7A5-5A8506C2C4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E73A-4ED7-42B1-AF3C-852F98298E5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B969-F5DC-40BA-B6D7-B213AA2515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53A6-D5ED-4C9B-94F2-A4D2FA999B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9EE1-639A-4A26-A245-CE73C38E742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631D-726D-4F13-A665-2CFBC30D75A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A02E-1087-4A69-BAF3-954CF58327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6055-B792-4281-9D79-F999CD1648D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DC1C8-B87C-4582-9A18-801BEF0FD43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0407-18B7-46B8-AAAB-35BF3818B5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5A90-95EB-4604-B88D-76CB90EDD7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ADBF-5393-40CF-93A7-316F1339B2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97A3-5F46-4CBE-ABAD-6B42E5C8FE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C677-C946-4202-9B05-C15D199D088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3B38-990E-420E-9692-6A5A8CF317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076-57E5-4AE7-AC1B-8F16233A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648A-00B2-4A38-ADE8-C6E09C53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281B-2F2D-41F8-8EEC-1AE5351C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A62-7871-4F67-8F35-00FD07098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117-DFE6-476B-A00C-989D9E6F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3CE8-AE80-4844-B3BE-D88F434BE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BEC0-1491-4249-8758-7FD0476D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7D8-6D36-428F-B18A-556469D6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EF7-EA62-4B22-A2A1-5DF3D09CA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FBEC-15A4-473A-8E95-38EBC323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31DA-F3D0-4808-812D-B29571B6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CF5-230A-4DE6-9E99-68818BF0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36F0-4A8F-49CC-BE6A-F53742C9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1692360" y="2852640"/>
            <a:ext cx="5472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Unit 1  Big or Small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765000"/>
            <a:ext cx="4249800" cy="58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ppy,happy,happy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, sad, sa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ll, tall, tall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859280" y="765000"/>
            <a:ext cx="4392720" cy="51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rt, short , 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, big, bi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mall, small,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,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he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n’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353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人称代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627552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，你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sh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i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755640" y="549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是）动词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m, is,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71640" y="1484280"/>
            <a:ext cx="7272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I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we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they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们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he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she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it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611280" y="981000"/>
            <a:ext cx="88567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你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, is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着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单数名词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复数名词全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疑问，往前提，句末问号莫丢弃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否定，更容易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莫忘记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疑问否定任你变，句首大写莫迟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WordArt 3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354636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755640" y="54936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是）动词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m, is, 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71640" y="1413000"/>
            <a:ext cx="7272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 = I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 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 = they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们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=  ______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 = she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她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 =it’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492360" y="19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403280" y="1268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332000" y="270828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132000" y="342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58920" y="414972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403280" y="4797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t 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55640" y="126828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般疑问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755640" y="184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app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419640" y="148428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492360" y="12682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be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动词放在句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755640" y="2349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 t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826920" y="2852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y sm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84360" y="3573360"/>
            <a:ext cx="62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列句子改为一般疑问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900000" y="429264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’re 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826920" y="494172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They’re 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900000" y="55897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e’s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067280" y="4581360"/>
            <a:ext cx="64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716360" y="429264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  sh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4788000" y="49417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y b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788000" y="55166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e  s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>
            <a:off x="3995640" y="530064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9"/>
          <p:cNvSpPr/>
          <p:nvPr/>
        </p:nvSpPr>
        <p:spPr>
          <a:xfrm>
            <a:off x="3851280" y="5877000"/>
            <a:ext cx="649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468360" y="333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否定句：在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动词后加上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68360" y="1125360"/>
            <a:ext cx="712800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’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ad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不伤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all 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不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r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no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small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们不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395280" y="314172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下列句子改为否定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68360" y="400536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’re  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24000" y="465300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They’re 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468360" y="530064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he’s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1"/>
          <p:cNvSpPr/>
          <p:nvPr/>
        </p:nvSpPr>
        <p:spPr>
          <a:xfrm>
            <a:off x="3564000" y="4292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16360" y="4005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we  h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3492360" y="5516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4500720" y="465300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y c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6"/>
          <p:cNvSpPr/>
          <p:nvPr/>
        </p:nvSpPr>
        <p:spPr>
          <a:xfrm>
            <a:off x="4500720" y="522936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e sho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3708360" y="494172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000"/>
                            </p:stCondLst>
                            <p:childTnLst>
                              <p:par>
                                <p:cTn id="4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105264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仿照例句写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68360" y="1628640"/>
            <a:ext cx="82296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例句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m happy.(s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→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am s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39640" y="2708280"/>
            <a:ext cx="82296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You are tall.(sh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e is small.(b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he is hot.(They,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258920" y="335772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87280" y="32130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ou are sh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1187280" y="436572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e is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1258920" y="558972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y’re c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图片7"/>
          <p:cNvPicPr/>
          <p:nvPr/>
        </p:nvPicPr>
        <p:blipFill>
          <a:blip r:embed="rId1"/>
          <a:stretch/>
        </p:blipFill>
        <p:spPr>
          <a:xfrm>
            <a:off x="0" y="2070000"/>
            <a:ext cx="4788000" cy="4788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1187280" y="620640"/>
            <a:ext cx="6624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t’s sing!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7"/>
          <p:cNvGrpSpPr/>
          <p:nvPr/>
        </p:nvGrpSpPr>
        <p:grpSpPr>
          <a:xfrm>
            <a:off x="4356000" y="620640"/>
            <a:ext cx="3528720" cy="3816360"/>
            <a:chOff x="4356000" y="620640"/>
            <a:chExt cx="3528720" cy="3816360"/>
          </a:xfrm>
        </p:grpSpPr>
        <p:pic>
          <p:nvPicPr>
            <p:cNvPr id="52" name="Picture 6" descr="易建联"/>
            <p:cNvPicPr/>
            <p:nvPr/>
          </p:nvPicPr>
          <p:blipFill>
            <a:blip r:embed="rId1"/>
            <a:srcRect l="17230" t="3026" r="24301" b="6270"/>
            <a:stretch/>
          </p:blipFill>
          <p:spPr>
            <a:xfrm>
              <a:off x="6154200" y="620640"/>
              <a:ext cx="1730520" cy="381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4" descr="姚明"/>
            <p:cNvPicPr/>
            <p:nvPr/>
          </p:nvPicPr>
          <p:blipFill>
            <a:blip r:embed="rId2"/>
            <a:srcRect l="15332" t="0" r="21271" b="271"/>
            <a:stretch/>
          </p:blipFill>
          <p:spPr>
            <a:xfrm>
              <a:off x="4356000" y="620640"/>
              <a:ext cx="1930320" cy="381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Text Box 8"/>
          <p:cNvSpPr/>
          <p:nvPr/>
        </p:nvSpPr>
        <p:spPr>
          <a:xfrm>
            <a:off x="1403280" y="134136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427640" y="4724280"/>
            <a:ext cx="3673440" cy="13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We’r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t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很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611280" y="2421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 you t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826920" y="328464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们很高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84360" y="407664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es,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e a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900000" y="494172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，我们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小矮人"/>
          <p:cNvPicPr/>
          <p:nvPr/>
        </p:nvPicPr>
        <p:blipFill>
          <a:blip r:embed="rId1"/>
          <a:stretch/>
        </p:blipFill>
        <p:spPr>
          <a:xfrm>
            <a:off x="684360" y="2924280"/>
            <a:ext cx="7993080" cy="3006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971640" y="1773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826920" y="620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Are yo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tal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643280" y="62064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,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 we are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4500720" y="1700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Arial"/>
              </a:rPr>
              <a:t>We’r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shor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1547640" y="549360"/>
            <a:ext cx="6480000" cy="3600360"/>
            <a:chOff x="1547640" y="549360"/>
            <a:chExt cx="6480000" cy="3600360"/>
          </a:xfrm>
        </p:grpSpPr>
        <p:pic>
          <p:nvPicPr>
            <p:cNvPr id="66" name="Picture 3" descr="3608567_8520"/>
            <p:cNvPicPr/>
            <p:nvPr/>
          </p:nvPicPr>
          <p:blipFill>
            <a:blip r:embed="rId1"/>
            <a:srcRect l="22689" t="10635" r="21943" b="5709"/>
            <a:stretch/>
          </p:blipFill>
          <p:spPr>
            <a:xfrm>
              <a:off x="1547640" y="549360"/>
              <a:ext cx="3357000" cy="36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4" descr="20130703235000-2083895917"/>
            <p:cNvPicPr/>
            <p:nvPr/>
          </p:nvPicPr>
          <p:blipFill>
            <a:blip r:embed="rId2"/>
            <a:srcRect l="24303" t="6652" r="0" b="5070"/>
            <a:stretch/>
          </p:blipFill>
          <p:spPr>
            <a:xfrm>
              <a:off x="4685400" y="549360"/>
              <a:ext cx="3342240" cy="36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Text Box 5"/>
          <p:cNvSpPr/>
          <p:nvPr/>
        </p:nvSpPr>
        <p:spPr>
          <a:xfrm>
            <a:off x="1403280" y="450864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348000" y="4437000"/>
            <a:ext cx="504036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They’re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big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很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971640" y="2276640"/>
            <a:ext cx="6408360" cy="3311280"/>
            <a:chOff x="971640" y="2276640"/>
            <a:chExt cx="6408360" cy="3311280"/>
          </a:xfrm>
        </p:grpSpPr>
        <p:pic>
          <p:nvPicPr>
            <p:cNvPr id="71" name="Picture 3" descr="3608567_8520"/>
            <p:cNvPicPr/>
            <p:nvPr/>
          </p:nvPicPr>
          <p:blipFill>
            <a:blip r:embed="rId1"/>
            <a:srcRect l="22689" t="10635" r="21943" b="5709"/>
            <a:stretch/>
          </p:blipFill>
          <p:spPr>
            <a:xfrm>
              <a:off x="971640" y="2276640"/>
              <a:ext cx="3319920" cy="33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4" descr="20130703235000-2083895917"/>
            <p:cNvPicPr/>
            <p:nvPr/>
          </p:nvPicPr>
          <p:blipFill>
            <a:blip r:embed="rId2"/>
            <a:srcRect l="24303" t="6652" r="0" b="5070"/>
            <a:stretch/>
          </p:blipFill>
          <p:spPr>
            <a:xfrm>
              <a:off x="4074840" y="2276640"/>
              <a:ext cx="3305160" cy="33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5"/>
          <p:cNvSpPr/>
          <p:nvPr/>
        </p:nvSpPr>
        <p:spPr>
          <a:xfrm>
            <a:off x="1042920" y="692280"/>
            <a:ext cx="727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e the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ig?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它们很大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900000" y="1557360"/>
            <a:ext cx="684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es,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they are.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是，他们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008313134628263"/>
          <p:cNvPicPr/>
          <p:nvPr/>
        </p:nvPicPr>
        <p:blipFill>
          <a:blip r:embed="rId1"/>
          <a:stretch/>
        </p:blipFill>
        <p:spPr>
          <a:xfrm>
            <a:off x="1258920" y="3141720"/>
            <a:ext cx="3960720" cy="2955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5796000" y="3860640"/>
            <a:ext cx="266364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755640" y="765000"/>
            <a:ext cx="3816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e the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bi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4643280" y="836640"/>
            <a:ext cx="431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,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they aren’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9640" y="1916280"/>
            <a:ext cx="7777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hey’r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它们很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u=3927874425,305602543&amp;fm=56"/>
          <p:cNvPicPr/>
          <p:nvPr/>
        </p:nvPicPr>
        <p:blipFill>
          <a:blip r:embed="rId1"/>
          <a:stretch/>
        </p:blipFill>
        <p:spPr>
          <a:xfrm>
            <a:off x="250920" y="333360"/>
            <a:ext cx="2232000" cy="1814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u=1343262538,4267678286&amp;fm=23&amp;gp=0"/>
          <p:cNvPicPr/>
          <p:nvPr/>
        </p:nvPicPr>
        <p:blipFill>
          <a:blip r:embed="rId2"/>
          <a:srcRect l="0" t="0" r="0" b="4795"/>
          <a:stretch/>
        </p:blipFill>
        <p:spPr>
          <a:xfrm>
            <a:off x="395280" y="2852640"/>
            <a:ext cx="2016000" cy="1576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u=1564170361,1159259209&amp;fm=21&amp;gp=0"/>
          <p:cNvPicPr/>
          <p:nvPr/>
        </p:nvPicPr>
        <p:blipFill>
          <a:blip r:embed="rId3"/>
          <a:stretch/>
        </p:blipFill>
        <p:spPr>
          <a:xfrm>
            <a:off x="2700360" y="333360"/>
            <a:ext cx="1727280" cy="1728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u=1715253174,1239790311&amp;fm=21&amp;gp=0"/>
          <p:cNvPicPr/>
          <p:nvPr/>
        </p:nvPicPr>
        <p:blipFill>
          <a:blip r:embed="rId4"/>
          <a:stretch/>
        </p:blipFill>
        <p:spPr>
          <a:xfrm>
            <a:off x="2627280" y="2924280"/>
            <a:ext cx="1944720" cy="1479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u=3632364573,1220599253&amp;fm=23&amp;gp=0"/>
          <p:cNvPicPr/>
          <p:nvPr/>
        </p:nvPicPr>
        <p:blipFill>
          <a:blip r:embed="rId5"/>
          <a:stretch/>
        </p:blipFill>
        <p:spPr>
          <a:xfrm>
            <a:off x="4716360" y="404640"/>
            <a:ext cx="1871640" cy="1741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u=1467125077,1197873673&amp;fm=23&amp;gp=0"/>
          <p:cNvPicPr/>
          <p:nvPr/>
        </p:nvPicPr>
        <p:blipFill>
          <a:blip r:embed="rId6"/>
          <a:stretch/>
        </p:blipFill>
        <p:spPr>
          <a:xfrm>
            <a:off x="5076720" y="2924280"/>
            <a:ext cx="1235160" cy="1296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755640" y="220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971640" y="4508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132000" y="2205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059280" y="4508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148360" y="213372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5148360" y="4437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u=2697626184,2783673139&amp;fm=23&amp;gp=0_副本"/>
          <p:cNvPicPr/>
          <p:nvPr/>
        </p:nvPicPr>
        <p:blipFill>
          <a:blip r:embed="rId7"/>
          <a:stretch/>
        </p:blipFill>
        <p:spPr>
          <a:xfrm>
            <a:off x="6877080" y="404640"/>
            <a:ext cx="1892160" cy="18003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5"/>
          <p:cNvSpPr/>
          <p:nvPr/>
        </p:nvSpPr>
        <p:spPr>
          <a:xfrm rot="4212600">
            <a:off x="6912360" y="2959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7451640" y="2205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7" descr="u=2697626184,2783673139&amp;fm=23&amp;gp=0_副本"/>
          <p:cNvPicPr/>
          <p:nvPr/>
        </p:nvPicPr>
        <p:blipFill>
          <a:blip r:embed="rId8"/>
          <a:stretch/>
        </p:blipFill>
        <p:spPr>
          <a:xfrm>
            <a:off x="6877080" y="2637000"/>
            <a:ext cx="18921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18"/>
          <p:cNvSpPr/>
          <p:nvPr/>
        </p:nvSpPr>
        <p:spPr>
          <a:xfrm rot="7258800">
            <a:off x="8208000" y="267228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7380360" y="4437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1187280" y="5013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app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1258920" y="580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ho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o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5219640" y="501336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big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5148360" y="5805360"/>
            <a:ext cx="35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tall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sh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84000" y="1267920"/>
            <a:ext cx="3600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ract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634716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迅速说出下列单词的反义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58920" y="2276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y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859280" y="2205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332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g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003640" y="2924280"/>
            <a:ext cx="22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t--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348000" y="227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804000" y="22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98764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6588000" y="292428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1258920" y="3716280"/>
            <a:ext cx="54738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根据中文提示，完成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1403280" y="4365720"/>
            <a:ext cx="4680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快乐的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re 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热的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的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________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的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2340000" y="414972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p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2987640" y="47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556000" y="530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132000" y="580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3:21:20Z</dcterms:created>
  <dc:creator/>
  <dc:description/>
  <dc:language>en-US</dc:language>
  <cp:lastModifiedBy/>
  <dcterms:modified xsi:type="dcterms:W3CDTF">2016-12-30T03:22:23Z</dcterms:modified>
  <cp:revision>1</cp:revision>
  <dc:subject/>
  <dc:title/>
</cp:coreProperties>
</file>